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9BA-3CB0-4DFE-A13F-5ADDEFE6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63A-48B8-493A-9985-E00D3410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C22-A459-45D6-BD07-4B8E3D54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7A0-B981-44BB-81FE-7D48F77C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4A3-D899-4B4A-9013-338C4AC7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2BF-6FB4-4B11-A82D-FC6B3C99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ABB-E192-4EE6-8F1B-16DAD6E3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125-62F5-4085-A890-80692E2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FDE-D910-4302-852A-1887609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98D-D60F-4A1D-BEE2-B1B061B7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990-1D0B-4F19-8D5C-1D76722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441-55F9-4913-BCF7-A6D2128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CED-0DF9-48AD-9C0E-FF727A3D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824-A08D-40A3-B5E8-AA37BC2C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7ED-A817-4385-9EE6-EAE54CE0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enos dias a todas mis amigas ¿Quien quiere irse al parque q jugar voliebo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4479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ibe algo…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Kat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onica. Y yo quiero ir a jugar volieb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3" descr="Photo on 2011-11-29 at 13.54.jpg"/>
          <p:cNvPicPr/>
          <p:nvPr/>
        </p:nvPicPr>
        <p:blipFill>
          <a:blip r:embed="rId7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6" descr="20204_393328290743197_1698626473_n.jpg"/>
          <p:cNvPicPr/>
          <p:nvPr/>
        </p:nvPicPr>
        <p:blipFill>
          <a:blip r:embed="rId8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2280" y="571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82890_472189296142141_2129182302_n.jpg"/>
          <p:cNvPicPr/>
          <p:nvPr/>
        </p:nvPicPr>
        <p:blipFill>
          <a:blip r:embed="rId10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67874_531360506891686_597812273_n.jpg"/>
          <p:cNvPicPr/>
          <p:nvPr/>
        </p:nvPicPr>
        <p:blipFill>
          <a:blip r:embed="rId11"/>
          <a:srcRect l="75669" t="-1140" r="0" b="62387"/>
          <a:stretch/>
        </p:blipFill>
        <p:spPr>
          <a:xfrm>
            <a:off x="1447920" y="524016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582018_472182296142841_1457810963_n.jpg"/>
          <p:cNvPicPr/>
          <p:nvPr/>
        </p:nvPicPr>
        <p:blipFill>
          <a:blip r:embed="rId12"/>
          <a:srcRect l="6207" t="-954" r="39793" b="18459"/>
          <a:stretch/>
        </p:blipFill>
        <p:spPr>
          <a:xfrm>
            <a:off x="228600" y="5943600"/>
            <a:ext cx="368280" cy="42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582018_472182296142841_1457810963_n.jpg"/>
          <p:cNvPicPr/>
          <p:nvPr/>
        </p:nvPicPr>
        <p:blipFill>
          <a:blip r:embed="rId13"/>
          <a:srcRect l="6207" t="-954" r="39793" b="18459"/>
          <a:stretch/>
        </p:blipFill>
        <p:spPr>
          <a:xfrm>
            <a:off x="2133720" y="2514600"/>
            <a:ext cx="3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User</cp:lastModifiedBy>
  <dcterms:modified xsi:type="dcterms:W3CDTF">2012-12-06T14:02:56Z</dcterms:modified>
  <cp:revision>104</cp:revision>
  <dc:subject/>
  <dc:title>Profile</dc:title>
</cp:coreProperties>
</file>